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F03-9AA3-4CE0-B493-E1D77E2A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0D7-DC73-40C8-886A-AB25911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E07-6FB7-4759-9D8D-DD9C98EC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659-3967-48E8-BC17-DEA3885E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9BC1-3628-493E-A852-5EECCBF4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EE7-8870-4B6B-B514-027004B4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8FE-5D36-4B7E-B6CF-64535C3D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9780-22F1-40F1-AD0F-3D0A7F7F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C07B-A334-49DF-8B35-EA1187D0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236C-8AD1-4F3A-8F4A-1985CF6B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B203-8CA1-4D9A-B842-970A9932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D13-9D5E-4091-A9F9-F7DA0B0F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8D8-3F9A-4B05-86C4-EFC196F7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1505-AFFA-49EB-A504-5839939B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59D-289D-4DF1-829B-FAD6BEA3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1F0C-9418-4185-B4EC-C7B7411A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4E7A-25DC-4DDB-92B1-0D361F99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302-7479-4F91-8F0D-B118201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460-81CE-4DDA-B51C-0BC6CAF5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82E-6CFD-4AA1-9F1E-D0C63694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BCB-5CB2-4A77-B741-0A9B0A7E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392-3DCB-4022-85D3-2AA1D09F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595-BCF8-4E78-B634-5CE1FD98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FBA-52A3-4A00-8DF0-8691B069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613C-C05A-4AA9-B203-4F2E51325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0D9D-E459-4C17-8486-D62045E7EF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onelyplanet.com/maps/africa/egypt/map_of_egypt.jpg" TargetMode="External"/><Relationship Id="rId2" Type="http://schemas.openxmlformats.org/officeDocument/2006/relationships/hyperlink" Target="http://www.dolittler.com/img/enclosures/Nile-river.jpg" TargetMode="External"/><Relationship Id="rId3" Type="http://schemas.openxmlformats.org/officeDocument/2006/relationships/hyperlink" Target="http://news.bbc.co.uk/1/hi/world/middle_east/country_profiles/737642.stm#facts" TargetMode="External"/><Relationship Id="rId4" Type="http://schemas.openxmlformats.org/officeDocument/2006/relationships/hyperlink" Target="http://lexicorient.com/e.o/nile_delta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67652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Franklin Gothic Medium Cond"/>
              </a:rPr>
              <a:t>Egy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228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Franklin Gothic Medium Cond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Franklin Gothic Medium Cond"/>
              </a:rPr>
              <a:t>Carly Be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Franklin Gothic Medium Cond"/>
              </a:rPr>
              <a:t>Matt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ulture Continued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Many of the women in Egypt wear head scarves demonstrating either modesty or Muslim pi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Egyptian food was cooked in simple clay pots, using wooden utensils and stored in j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Beer was the national drink, made from the crops of barl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 Cond"/>
              </a:rPr>
              <a:t>Bread was the staple food of most Egypti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102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Places to Vis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Red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Alexa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Coral and Fish in the Red Sea of Egypt"/>
          <p:cNvPicPr/>
          <p:nvPr/>
        </p:nvPicPr>
        <p:blipFill>
          <a:blip r:embed="rId1"/>
          <a:stretch/>
        </p:blipFill>
        <p:spPr>
          <a:xfrm>
            <a:off x="4952880" y="533520"/>
            <a:ext cx="3781440" cy="3493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Works Sit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1"/>
              </a:rPr>
              <a:t>http://www.lonelyplanet.com/maps/africa/egypt/map_of_egyp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2"/>
              </a:rPr>
              <a:t>http://www.dolittler.com/img/enclosures/Nile-rive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3"/>
              </a:rPr>
              <a:t>http://news.bbc.co.uk/1/hi/world/middle_east/country_profiles/737642.stm#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767ff"/>
                </a:solidFill>
                <a:uFillTx/>
                <a:latin typeface="Franklin Gothic Medium Cond"/>
                <a:hlinkClick r:id="rId4"/>
              </a:rPr>
              <a:t>http://lexicorient.com/e.o/nile_delt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://www.goegypt.net/aboutegy/geo/natural_resourc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://encarta.msn.com/text_761557408___2/egyp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s://www.cia.gov/library/publications/the-world-factbook/geos/eg.html#E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Medium Cond"/>
              </a:rPr>
              <a:t>http://travel.nationalgeographic.com/places/countries/country_egyp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sk-aladdin.com/culture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ask-aladdin.com/pyramid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L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 Cond"/>
              </a:rPr>
              <a:t>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Between Libya and the N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 Cond"/>
              </a:rPr>
              <a:t>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 Cond"/>
              </a:rPr>
              <a:t>Wate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 Cond"/>
              </a:rPr>
              <a:t>4,000 miles lo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anklin Gothic Medium Cond"/>
              </a:rPr>
              <a:t>156,776.4 gallons of w</a:t>
            </a:r>
            <a:r>
              <a:rPr b="0" lang="en-US" sz="2900" spc="-1" strike="noStrike">
                <a:solidFill>
                  <a:srgbClr val="ffffff"/>
                </a:solidFill>
                <a:latin typeface="Franklin Gothic Medium Cond"/>
              </a:rPr>
              <a:t>ater per da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 Cond"/>
              </a:rPr>
              <a:t>Natural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 Cond"/>
              </a:rPr>
              <a:t>Egypt's most valuable mineral resource is oil, although the country also has gold deposits as well as iron ore, manganese, phosphates and uran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Nile Del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Half of Egypt's population live 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The delta has been formed through deposits through tens of thousands of years by the N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Originally, the delta had 7 equal tributaries; today two of them dominate, the Rosetta and the Damietta ri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limate and Vege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a hot season from May to Septemb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a cool season from November to Mar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coastal regions average annual temperatures range from a maximum of 99°F to a minimum of 57°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Veg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The vegetation of Egypt is confined largely to the Nile Delta like the date palm, sycamore, tamarisk, acacia, and carob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Govern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Political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Muhammad Hosni Mubara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Republic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Lif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69 years (me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74 years (wome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76.8 million (20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Egyptian President Hosni Mubarak"/>
          <p:cNvPicPr/>
          <p:nvPr/>
        </p:nvPicPr>
        <p:blipFill>
          <a:blip r:embed="rId1"/>
          <a:stretch/>
        </p:blipFill>
        <p:spPr>
          <a:xfrm>
            <a:off x="5791320" y="1752480"/>
            <a:ext cx="2577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Wrote in hierogly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Built pyram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Flourishing trade country during their highest economic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British troops take control of Egypt in 18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1936- British withdrawals all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Muslim Brotherhood members found in military sent to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urrent Ev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 Cond"/>
              </a:rPr>
              <a:t>Egypt releases jailed oppositio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Econom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The Egyptian economy is the second largest in the Arab world after Saudi Arab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Main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Petroleu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petroleum produ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Cott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Literac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5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 Cond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Medium Cond"/>
              </a:rPr>
              <a:t>Egyptian P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314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 Cond"/>
              </a:rPr>
              <a:t>Cul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Arab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Englis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Fren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 Cond"/>
              </a:rPr>
              <a:t>Reli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Sunni Musli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Franklin Gothic Medium Cond"/>
              </a:rPr>
              <a:t>Coptic Christi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The Pyramids of Giza"/>
          <p:cNvPicPr/>
          <p:nvPr/>
        </p:nvPicPr>
        <p:blipFill>
          <a:blip r:embed="rId1"/>
          <a:stretch/>
        </p:blipFill>
        <p:spPr>
          <a:xfrm>
            <a:off x="3809880" y="1752480"/>
            <a:ext cx="49150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1:54Z</dcterms:created>
  <dc:creator>carlyrbecker</dc:creator>
  <dc:description/>
  <dc:language>en-US</dc:language>
  <cp:lastModifiedBy>McFaddeR</cp:lastModifiedBy>
  <dcterms:modified xsi:type="dcterms:W3CDTF">2009-03-16T11:49:38Z</dcterms:modified>
  <cp:revision>24</cp:revision>
  <dc:subject/>
  <dc:title>Egypt</dc:title>
</cp:coreProperties>
</file>